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whoosh.wav" ContentType="audio/x-wav"/>
  <Override PartName="/ppt/media/image10.jpeg" ContentType="image/jpeg"/>
  <Override PartName="/ppt/media/applause.wav" ContentType="audio/x-wav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Impact"/>
              </a:rPr>
              <a:t>Click to move the slide</a:t>
            </a: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3806-F9A2-4D4E-8448-69A685701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58F3-3718-4836-8921-1AA3AE259FF6}" type="slidenum">
              <a:rPr b="0" lang="en-US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0104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64628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64628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0104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0104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64628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64628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0104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64628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master background w 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7832520" y="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Main menu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4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9.xml"/><Relationship Id="rId3" Type="http://schemas.openxmlformats.org/officeDocument/2006/relationships/slide" Target="slide4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228600" y="6094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48" name="Picture 12" descr="title pag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Impact"/>
              </a:rPr>
              <a:t>-Buddhism-</a:t>
            </a:r>
            <a:br>
              <a:rPr sz="8000"/>
            </a:br>
            <a:r>
              <a:rPr b="0" lang="en-US" sz="8000" spc="-1" strike="noStrike">
                <a:solidFill>
                  <a:srgbClr val="000099"/>
                </a:solidFill>
                <a:latin typeface="Impact"/>
              </a:rPr>
              <a:t>-Confucianism-</a:t>
            </a:r>
            <a:br>
              <a:rPr sz="8000"/>
            </a:br>
            <a:r>
              <a:rPr b="0" lang="en-US" sz="8000" spc="-1" strike="noStrike">
                <a:solidFill>
                  <a:srgbClr val="000099"/>
                </a:solidFill>
                <a:latin typeface="Impact"/>
              </a:rPr>
              <a:t>-Taoism-</a:t>
            </a:r>
            <a:br>
              <a:rPr sz="8000"/>
            </a:br>
            <a:endParaRPr b="0" lang="en-US" sz="8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9480" y="457200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Impact"/>
              </a:rPr>
              <a:t>The Three major</a:t>
            </a:r>
            <a:br>
              <a:rPr sz="6600"/>
            </a:br>
            <a:r>
              <a:rPr b="0" lang="en-US" sz="6600" spc="-1" strike="noStrike">
                <a:solidFill>
                  <a:srgbClr val="000099"/>
                </a:solidFill>
                <a:latin typeface="Impact"/>
              </a:rPr>
              <a:t> ISM’S</a:t>
            </a:r>
            <a:endParaRPr b="0" lang="en-US" sz="66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’s key discovery is known as the Four Noble Truth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third truth is the cure for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Tanh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.  Not the real cure though, just the knowledge, and understanding that there is a cure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’s key discovery is known as the Four Noble Truth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fourth truth is the real cure for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Tanah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. It comes in the form of the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Eight Fold Path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79" name="Picture 5" descr="tibetan_buddhism"/>
          <p:cNvPicPr/>
          <p:nvPr/>
        </p:nvPicPr>
        <p:blipFill>
          <a:blip r:embed="rId1"/>
          <a:stretch/>
        </p:blipFill>
        <p:spPr>
          <a:xfrm>
            <a:off x="1828800" y="4191120"/>
            <a:ext cx="5486400" cy="240336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Eight Fold Path: You must have all of the following qualities to cure Tanha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Knowledge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 must have the knowledge of the Four Noble Truths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Aspiration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 have to want to reach true enlightenment for the Eight Fold Path to work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705720" y="6415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Confucian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52280" y="6415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Eight Fold Path: You must have all of the following qualities to cure Tanha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Speech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 need to take notice of how often you feel the need to deviate from the truth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Behavior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Do not kill, Steal, Lie, or be unchaste, take drugs or intoxicants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Eight Fold Path: You must have all of the following qualities to cure Tanha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Livelihood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r occupation can not go against the teachings of the Buddha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2" marL="114300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Effort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 have to be dedicated and always try to follow the way of the Buddhist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2" marL="114300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781680" y="64008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Eight Fold Path: You must have all of the following qualities to cure Tanha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Mindfulness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You have to be aware of every part of yourself. Your thought and your feelings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2" marL="114300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Right Absorption: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8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If you loose delusion, craving and hostility, the three poisons. You will see things how they should be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If you follow the Four Noble truths you could reach 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Nirvana</a:t>
            </a: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. Which is the ultimate goal for every Buddhist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Nirvana</a:t>
            </a: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 is permanent, stable imperishable, immovable, ageless, deathless, unborn, and unbecoming; it is power, bliss and happiness, the secure refuge, the shelter, and the place of unassailable saftey;… incomprehensible peace </a:t>
            </a:r>
            <a:r>
              <a:rPr b="0" lang="en-US" sz="2800" spc="-1" strike="noStrike">
                <a:solidFill>
                  <a:srgbClr val="003300"/>
                </a:solidFill>
                <a:latin typeface="Arial Rounded MT Bold"/>
              </a:rPr>
              <a:t>(world’s region)</a:t>
            </a:r>
            <a:endParaRPr b="0" lang="en-US" sz="28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 said that the human self has no soul, “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Anatta</a:t>
            </a: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”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pic>
        <p:nvPicPr>
          <p:cNvPr id="95" name="Picture 5" descr="casper-friendly-ghost-1"/>
          <p:cNvPicPr/>
          <p:nvPr/>
        </p:nvPicPr>
        <p:blipFill>
          <a:blip r:embed="rId1"/>
          <a:stretch/>
        </p:blipFill>
        <p:spPr>
          <a:xfrm>
            <a:off x="-3200400" y="4038480"/>
            <a:ext cx="289404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animMotion origin="layout" path="M 6.66667E-006 5.55556E-006 C 0.08091 0.00834 -0.02256 -0.00161 0.16459 0.00556 C 0.18369 0.00626 0.2066 0.01968 0.22501 0.02778 C 0.23855 0.0338 0.24601 0.04792 0.26025 0.05278 C 0.32865 0.04978 0.30556 0.06019 0.33751 0.0389 C 0.34237 0.0294 0.34706 0.02315 0.35417 0.01667 C 0.36164 0.00186 0.3691 -0.00786 0.379 -0.01944 C 0.38143 -0.02198 0.38282 -0.02569 0.38542 -0.02777 C 0.38733 -0.02939 0.38942 -0.02939 0.39167 -0.03055 C 0.40608 -0.03865 0.42136 -0.04328 0.43542 -0.05277 C 0.45487 -0.05185 0.47414 -0.05161 0.49376 -0.04999 C 0.49775 -0.04953 0.50504 -0.04328 0.50817 -0.04166 C 0.51598 -0.03796 0.52865 -0.03703 0.53525 -0.0361 C 0.55556 -0.02708 0.57466 -0.01666 0.59567 -0.0111 C 0.60087 -0.00786 0.60487 -0.00231 0.61042 5.55556E-006 C 0.61424 0.00186 0.61876 0.00163 0.62275 0.00278 C 0.6349 0.00649 0.62414 0.00672 0.6415 0.0139 C 0.64619 0.01575 0.65122 0.01575 0.65626 0.01667 C 0.71581 0.04306 0.68612 0.02778 0.80192 0.03056 C 0.89931 0.02964 0.99653 0.02964 1.09358 0.02778 C 1.10678 0.02755 1.12206 0.01644 1.13525 0.0139 C 1.14289 0.01042 1.1481 0.00533 1.15608 0.00278 C 1.17101 -0.01712 1.17362 -0.04884 1.18542 -0.07222 C 1.19098 -0.10161 1.18334 -0.06689 1.1915 -0.09166 C 1.19324 -0.09698 1.19445 -0.10277 1.19567 -0.10833 C 1.19653 -0.1111 1.19619 -0.11458 1.19792 -0.11666 C 1.21199 -0.13564 1.20556 -0.12893 1.21667 -0.13888 C 1.22136 -0.14884 1.22674 -0.15347 1.23317 -0.1611 C 1.23751 -0.16643 1.24081 -0.17337 1.24584 -0.17777 C 1.24983 -0.18147 1.25834 -0.18888 1.25834 -0.18888 C 1.2757 -0.22337 1.25869 -0.19421 1.27275 -0.2111 C 1.27709 -0.21643 1.28039 -0.22337 1.28542 -0.22777 C 1.28942 -0.23147 1.29497 -0.23356 1.29792 -0.23888 C 1.30435 -0.25046 1.31112 -0.25671 1.31876 -0.26666 C 1.33785 -0.29235 1.30522 -0.25601 1.329 -0.28333 C 1.34219 -0.29814 1.3566 -0.30786 1.36251 -0.33055 C 1.36129 -0.35601 1.36147 -0.37013 1.35626 -0.39166 C 1.35539 -0.39814 1.35574 -0.40485 1.35417 -0.4111 C 1.35278 -0.4155 1.34949 -0.41828 1.34775 -0.42222 C 1.34688 -0.42476 1.34653 -0.42777 1.34567 -0.43055 C 1.34428 -0.43518 1.34341 -0.44027 1.34167 -0.44444 C 1.34011 -0.44768 1.33716 -0.44976 1.33542 -0.45277 C 1.32778 -0.46435 1.32206 -0.47777 1.31233 -0.4861 C 1.30469 -0.50694 1.3132 -0.48935 1.30001 -0.50277 C 1.29671 -0.50601 1.29445 -0.51041 1.2915 -0.51388 C 1.28178 -0.52522 1.26945 -0.53402 1.25834 -0.54166 C 1.25278 -0.54513 1.24897 -0.55208 1.24376 -0.55555 C 1.24115 -0.55717 1.23785 -0.55694 1.23525 -0.55833 C 1.22969 -0.56157 1.22466 -0.56735 1.21876 -0.56944 C 1.21025 -0.57222 1.20504 -0.5743 1.19792 -0.58055 C 1.17188 -0.57916 1.1382 -0.58495 1.11442 -0.56388 C 1.10886 -0.55277 1.10105 -0.5449 1.09358 -0.5361 C 1.08803 -0.52916 1.08247 -0.52129 1.07692 -0.51388 C 1.07483 -0.5111 1.07084 -0.50555 1.07084 -0.50555 C 1.06719 -0.49189 1.06372 -0.49768 1.05608 -0.4861 C 1.04879 -0.47453 1.04289 -0.4611 1.03334 -0.45277 C 1.02709 -0.44027 1.02587 -0.43703 1.01442 -0.43333 C 1.00591 -0.41018 1.01685 -0.43194 0.99983 -0.41944 C 0.99653 -0.41689 0.9948 -0.41134 0.99167 -0.40833 C 0.98716 -0.40416 0.98143 -0.40393 0.97692 -0.39999 C 0.97344 -0.39675 0.97049 -0.39212 0.96667 -0.38888 C 0.96025 -0.38356 0.95087 -0.38101 0.94376 -0.37777 C 0.91459 -0.3787 0.88542 -0.378 0.85626 -0.38055 C 0.84098 -0.38194 0.82015 -0.40995 0.80626 -0.41944 C 0.79619 -0.43749 0.77848 -0.45115 0.76233 -0.45833 C 0.74792 -0.47777 0.73508 -0.47638 0.71667 -0.4861 C 0.71077 -0.48911 0.70591 -0.49467 0.70001 -0.49722 C 0.6856 -0.50347 0.67067 -0.50347 0.65626 -0.50833 C 0.64515 -0.51203 0.63386 -0.51735 0.62275 -0.52222 C 0.61615 -0.52522 0.60192 -0.52777 0.60192 -0.52777 C 0.57761 -0.52685 0.55313 -0.52847 0.52917 -0.52499 C 0.52674 -0.52453 0.52692 -0.51851 0.52483 -0.51666 C 0.52119 -0.51365 0.51251 -0.5111 0.51251 -0.5111 C 0.50122 -0.48842 0.51719 -0.5162 0.50001 -0.49999 C 0.49723 -0.49722 0.49636 -0.49189 0.49376 -0.48888 C 0.49202 -0.48703 0.48924 -0.48749 0.48733 -0.4861 C 0.47831 -0.48009 0.47518 -0.47314 0.46459 -0.46944 C 0.45313 -0.45925 0.43872 -0.44606 0.429 -0.43333 C 0.42709 -0.43055 0.4257 -0.42615 0.42292 -0.42499 C 0.41563 -0.42222 0.40747 -0.42314 0.39983 -0.42222 C 0.38907 -0.41504 0.37761 -0.40995 0.36667 -0.40277 C 0.3514 -0.4037 0.33594 -0.40393 0.32067 -0.40555 C 0.30886 -0.40671 0.29515 -0.41226 0.28334 -0.41388 C 0.27449 -0.41689 0.26789 -0.42106 0.26025 -0.42777 C 0.25313 -0.44212 0.24098 -0.44722 0.23108 -0.45833 C 0.21945 -0.47175 0.22362 -0.48101 0.20626 -0.48888 C 0.19237 -0.5074 0.179 -0.5199 0.16251 -0.53333 C 0.15122 -0.54235 0.13942 -0.55509 0.12709 -0.5611 C 0.10105 -0.57384 0.07327 -0.57638 0.04584 -0.58055 C -0.01354 -0.578 -0.00399 -0.58634 -0.03749 -0.56388 C -0.0394 -0.55323 -0.04322 -0.54629 -0.04584 -0.5361 C -0.04791 -0.51342 -0.0493 -0.51249 -0.04584 -0.48888 C -0.04496 -0.4831 -0.04253 -0.478 -0.04166 -0.47222 C -0.03992 -0.46018 -0.04149 -0.4456 -0.03541 -0.4361 C -0.03246 -0.43171 -0.02847 -0.4287 -0.02499 -0.42499 C -0.02204 -0.41319 -0.01631 -0.41226 -0.01041 -0.40277 C -0.00294 -0.39097 -0.00989 -0.39722 6.66667E-006 -0.3861 C 0.00192 -0.38402 0.00452 -0.38286 0.00626 -0.38055 C 0.01303 -0.37152 0.01824 -0.35902 0.02501 -0.34999 C 0.03004 -0.34328 0.03594 -0.33842 0.04167 -0.33333 C 0.04584 -0.31666 0.04046 -0.3324 0.05417 -0.31666 C 0.05608 -0.31458 0.05643 -0.31041 0.05834 -0.30833 C 0.06146 -0.30485 0.06546 -0.30323 0.06876 -0.29999 C 0.07119 -0.29768 0.07258 -0.29374 0.07501 -0.29166 C 0.07692 -0.29004 0.07917 -0.29004 0.08126 -0.28888 C 0.08403 -0.28726 0.08716 -0.28587 0.08959 -0.28333 C 0.09983 -0.27314 0.09462 -0.27314 0.10417 -0.26666 C 0.10747 -0.26435 0.11129 -0.26342 0.11459 -0.2611 C 0.11754 -0.25879 0.1198 -0.25485 0.12292 -0.25277 C 0.12692 -0.25022 0.13542 -0.24722 0.13542 -0.24722 C 0.14966 -0.22823 0.17466 -0.23009 0.19358 -0.22499 C 0.2415 -0.22592 0.28942 -0.22592 0.33751 -0.22777 C 0.34428 -0.228 0.34376 -0.2331 0.34983 -0.2361 C 0.3606 -0.24143 0.36841 -0.24374 0.379 -0.24999 C 0.39306 -0.25833 0.40921 -0.26041 0.42292 -0.26944 C 0.42744 -0.27245 0.43074 -0.27777 0.43542 -0.28055 C 0.45765 -0.29444 0.48247 -0.30046 0.50608 -0.30833 C 0.53733 -0.30671 0.56528 -0.3037 0.59567 -0.29999 C 0.61476 -0.2949 0.63265 -0.29328 0.65192 -0.29166 C 0.66772 -0.27777 0.64792 -0.29397 0.6665 -0.28333 C 0.68681 -0.27175 0.65712 -0.28286 0.68126 -0.27499 C 0.69081 -0.26643 0.70018 -0.25532 0.70817 -0.24444 C 0.71893 -0.20208 0.71528 -0.15347 0.70608 -0.1111 C 0.704 -0.08981 0.70209 -0.06851 0.70001 -0.04722 C 0.70122 0.01089 0.68612 0.05325 0.72292 0.07778 C 0.75035 0.07593 0.77344 0.07269 0.80001 0.06667 C 0.80556 0.06366 0.81129 0.06228 0.81667 0.05834 C 0.83803 0.04237 0.82136 0.0507 0.83542 0.04445 C 0.84272 0.02987 0.85504 0.02153 0.86667 0.0139 C 0.86945 0.00255 0.87258 -0.00185 0.88108 -0.00555 C 0.89515 -0.0037 0.90626 -0.00277 0.91858 0.00556 E">
                                      <p:cBhvr>
                                        <p:cTn id="321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 did believe in reincarnation.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saw it as a wave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said that nothing will be identical to this life in the next, “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Pari Passu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”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three groups of Buddhist today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inayana: The Little Way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Mahayana: The Great Way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Vajrayana: The Diamond Way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28600" y="6094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52" name="Picture 3" descr="title pag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Please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Use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Your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Mouse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      To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	</a:t>
            </a:r>
            <a:r>
              <a:rPr b="0" lang="en-US" sz="6000" spc="-1" strike="noStrike">
                <a:solidFill>
                  <a:srgbClr val="000099"/>
                </a:solidFill>
                <a:latin typeface="Impact"/>
              </a:rPr>
              <a:t>    Navigate</a:t>
            </a:r>
            <a:endParaRPr b="0" lang="en-US" sz="6000" spc="-1" strike="noStrike">
              <a:solidFill>
                <a:srgbClr val="000099"/>
              </a:solidFill>
              <a:latin typeface="Impact"/>
            </a:endParaRPr>
          </a:p>
        </p:txBody>
      </p:sp>
    </p:spTree>
  </p:cSld>
  <p:transition spd="med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inayana: The Little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prefer to call their Buddhism        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         “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Theravad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way of the Elder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follow the Pali Canon record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Believed that Progress lies with the individual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Believe that there is no God to help you get through life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248520" y="6019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Confucian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inayana: The Little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prime attribute is wisdom “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Bodhi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”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Sangh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: Monasteries filled with spiritual dynamos where Theravada thrived. 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believe that their religion was for these high priest to teach and pass on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would only use meditation and invocations to strengthen their faith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Mahayana: The Great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Claim that they represent the true line of succession, from the Buddha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at Buddha reached Nirvana and returned to teach others how to reach it as well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believe that there is defiantly, Buddhas and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Bodhisattvas,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 to help them through life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9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Bodhisattvas: A person that has attained enlightenment, but postpones Nirvana in order to enlighten others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Mahayana: The Great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prime attribute is compassion “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Karun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”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Believe that the religion is primarily for the average person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dded supplications, petition, and calling out Buddha’s name for strength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109" name="Picture 4" descr="buddha_lying_down"/>
          <p:cNvPicPr/>
          <p:nvPr/>
        </p:nvPicPr>
        <p:blipFill>
          <a:blip r:embed="rId1"/>
          <a:stretch/>
        </p:blipFill>
        <p:spPr>
          <a:xfrm>
            <a:off x="2717640" y="4684680"/>
            <a:ext cx="3225960" cy="209700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4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Vajrayana: The Diamond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way to realize Buddha’s wisdom and compassion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Vajrayana started in Tibet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essence of Vajrayana Buddhism is Tantra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t teachings gives the advantage of reaching Nirvana in a single life time by using, and focusing all the energies in the body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Vajrayana: The Diamond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Mantras: Fashion sounds into holy formulas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Mudras: Turn hand gestures into scared dances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Mandalas: Use icons who’s holy beauty empowers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Vajrayana: The Diamond Way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Dali Lama is the Vajrayana’s version of a Bodhisattva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Dali Lama has reincarnated himself 13 times, so he can continue to lead the Tibetan people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116" name="Picture 6" descr="image_society011"/>
          <p:cNvPicPr/>
          <p:nvPr/>
        </p:nvPicPr>
        <p:blipFill>
          <a:blip r:embed="rId1"/>
          <a:stretch/>
        </p:blipFill>
        <p:spPr>
          <a:xfrm>
            <a:off x="2819520" y="4572000"/>
            <a:ext cx="3352680" cy="215280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inayana, Mahayana, Vajrayana: The Rafts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ll have a single founder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ll deal with the metaphor, using a raft to cross life’s river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Once you cross the river the realm of God is no distant place. It is where you now stand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ll have very lavish temples and shrines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17220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inayana, Mahayana, Vajrayana: The Rafts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ll believe in the kindness to all creatures, the non-killing of animals, the elimination of caste barriers in religion and their reduction in social matters. (world religion’s)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Buddhism thrives in every Asian land, except the one that gave birth to it. India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05320" y="6324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80880" y="18288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Rounded MT Bold"/>
              </a:rPr>
              <a:t>The father of Confucianism</a:t>
            </a:r>
            <a:endParaRPr b="0" lang="en-US" sz="4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25" name="Picture 7" descr="Confucius_01"/>
          <p:cNvPicPr/>
          <p:nvPr/>
        </p:nvPicPr>
        <p:blipFill>
          <a:blip r:embed="rId1"/>
          <a:stretch/>
        </p:blipFill>
        <p:spPr>
          <a:xfrm>
            <a:off x="6022800" y="2814480"/>
            <a:ext cx="2230560" cy="380376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33228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as born around 551 B.C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n what is now the Shantung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Provinc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Impact"/>
              </a:rPr>
              <a:t>The Three ISM’s</a:t>
            </a:r>
            <a:endParaRPr b="0" lang="en-US" sz="66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 Rounded MT Bold"/>
                <a:hlinkClick r:id="rId1" action="ppaction://hlinksldjump"/>
              </a:rPr>
              <a:t>Buddhism</a:t>
            </a:r>
            <a:endParaRPr b="0" lang="en-US" sz="54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3322800"/>
            <a:ext cx="82296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 Rounded MT Bold"/>
                <a:hlinkClick r:id="rId2" action="ppaction://hlinksldjump"/>
              </a:rPr>
              <a:t>Confucianism</a:t>
            </a:r>
            <a:endParaRPr b="0" lang="en-US" sz="5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57200" y="522756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 Rounded MT Bold"/>
                <a:hlinkClick r:id="rId3" action="ppaction://hlinksldjump"/>
              </a:rPr>
              <a:t>Taoism</a:t>
            </a:r>
            <a:endParaRPr b="0" lang="en-US" sz="54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5562720" y="2514600"/>
            <a:ext cx="2971800" cy="297180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In his early twenties he became a tutor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At the age of fifty Confucius set out on a 13 year trek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e died at the age of 74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was undoubtedly one of the worlds best teachers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e always taught very informal, like a fellow learner with his students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e never thought of himself as a sage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With his death began his glorification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is teachings have touched almost every Chinese student for the past two thousand years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Confucius believed that tradition was the key to peace, in this very unstable time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believed that tradition would show them the way back to a happy China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looked back Five Hundred years to the Chou Dynasty for the answer on how to get China out of turmoil.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shifted tradition from an unconscious state to a state of consciousnes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During the Chou Dynasty, warfare had become a very gruesome affair, whole populations were put to death. Anywhere from 60,000 to 400,000 people slaughtere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had Five Ideals that guided his thoughts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Jen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: Is the ideal way for one to carry oneself through life. “Measure the feeling of others by one’s own.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Chu Tzu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: If Jen is how a person should be, then Chu Tzu is how a person should act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had Five Ideals that guided his thoughts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Li: The propriety- The way things should be done. It is the way you should act in what ever role you play in life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9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A father should be a father, and a ruler should be a ruler.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28600" y="4846680"/>
            <a:ext cx="86868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e: Translates to “Power”.  How the people with power, use it.  For a person to be a great leader his followers must choose to follow him.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477120" y="3657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had Five Ideals that guided his thoughts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en: Victory goes to the state with the highest culture.  Art has the power to ennoble the human spirit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141" name="Picture 4" descr="lao-tzu-taoism"/>
          <p:cNvPicPr/>
          <p:nvPr/>
        </p:nvPicPr>
        <p:blipFill>
          <a:blip r:embed="rId1"/>
          <a:stretch/>
        </p:blipFill>
        <p:spPr>
          <a:xfrm>
            <a:off x="380880" y="4086360"/>
            <a:ext cx="1905120" cy="246672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  <p:pic>
        <p:nvPicPr>
          <p:cNvPr id="142" name="Picture 5" descr="tao"/>
          <p:cNvPicPr/>
          <p:nvPr/>
        </p:nvPicPr>
        <p:blipFill>
          <a:blip r:embed="rId2"/>
          <a:stretch/>
        </p:blipFill>
        <p:spPr>
          <a:xfrm>
            <a:off x="7162920" y="4038480"/>
            <a:ext cx="1668240" cy="243864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  <p:sp>
        <p:nvSpPr>
          <p:cNvPr id="143" name="Text Box 6"/>
          <p:cNvSpPr/>
          <p:nvPr/>
        </p:nvSpPr>
        <p:spPr>
          <a:xfrm>
            <a:off x="2666880" y="441972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hina placed the scholar-bureaucrat at the top of its social scale, and its soldiers at the bottom.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198 0.00578 C 0.78871 -0.2807 0.71562 -0.56694 0.68732 -0.55029 C 0.65902 -0.53364 0.72916 0.10659 0.69218 0.10497 C 0.65521 0.10358 0.50607 -0.56255 0.4651 -0.5607 C 0.42413 -0.55908 0.39357 0.11653 0.44618 0.11537 C 0.49878 0.11422 0.83003 -0.4444 0.78107 -0.5674 C 0.73211 -0.69018 0.23923 -0.68208 0.15243 -0.6222 C 0.06562 -0.56255 0.17135 -0.2585 0.26041 -0.20786 C 0.34948 -0.15746 0.73177 -0.27052 0.68732 -0.31792 C 0.64288 -0.36509 0.11666 -0.53642 -0.00625 -0.4911 C -0.12917 -0.44578 -0.05365 -0.12694 -0.0507 -0.04509 C -0.04775 0.0363 0.0026 -0.00879 0.01128 -0.0007 C 0.01996 0.00717 0.01076 0.00416 0.00173 0.00139 E">
                                      <p:cBhvr>
                                        <p:cTn id="60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778 0.1059 C -0.86701 -0.12069 -0.85625 -0.34705 -0.78108 -0.47977 C -0.7059 -0.61249 -0.50069 -0.71144 -0.42708 -0.6911 C -0.35347 -0.67075 -0.41111 -0.36208 -0.33976 -0.35723 C -0.2684 -0.35237 -0.05851 -0.68116 0.00156 -0.6615 C 0.06163 -0.64185 0.05191 -0.36324 0.02049 -0.23884 C -0.01094 -0.11445 -0.0816 0.06728 -0.18733 0.08462 C -0.29306 0.10197 -0.53299 -0.01896 -0.61441 -0.13526 C -0.69583 -0.25156 -0.74549 -0.52162 -0.67621 -0.61295 C -0.60694 -0.70428 -0.22465 -0.74751 -0.19844 -0.68277 C -0.17222 -0.61803 -0.45781 -0.36185 -0.5191 -0.22405 C -0.58038 -0.08624 -0.6217 0.12046 -0.56667 0.14382 C -0.51163 0.16717 -0.28333 -0.06035 -0.18889 -0.08439 C -0.09444 -0.10844 -0.03142 -0.0141 -1.11111E-006 -3.3526E-006 E">
                                      <p:cBhvr>
                                        <p:cTn id="61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believed that with out human relationships, there would be no self.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Five Constant relationships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in life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Parent and Chil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usband and Wif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Elder Sibling and Junior Sibling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Elder Friend and Junior Frien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People have to warrant the respect and power that comes with their positions in life.  Power and respect are not a given, they must be earned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e believed that if everyone followed the five ideals, even just one person the effect would be wide spread.  Through that person’s family, community, nation, and the world. 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705720" y="6415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Buddh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038480" y="6415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shifted China’s focus from heaven to earth. Though he did not remove heaven from the picture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saw that his country could not serve it’s people, so how was it going to serve it’s ancestor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e believed that somewhere in the universe there is a power that is on  the side of right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hina configured the Confucianism religion, so that it would serve everyone.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hina still holds a great importance for the Five Constant Relationship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With each passing year people listen more and more to there elder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33228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Siddhartha Gautama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5000"/>
              </a:lnSpc>
              <a:spcBef>
                <a:spcPts val="1925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as born around 563 B.C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95000"/>
              </a:lnSpc>
              <a:spcBef>
                <a:spcPts val="1925"/>
              </a:spcBef>
              <a:buClr>
                <a:srgbClr val="3366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n Nepal</a:t>
            </a:r>
            <a:endParaRPr b="0" lang="en-US" sz="28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5800" y="18288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Rounded MT Bold"/>
              </a:rPr>
              <a:t>The father of Buddhism</a:t>
            </a:r>
            <a:endParaRPr b="0" lang="en-US" sz="4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62" name="Picture 6" descr="laughbuddha"/>
          <p:cNvPicPr/>
          <p:nvPr/>
        </p:nvPicPr>
        <p:blipFill>
          <a:blip r:embed="rId1"/>
          <a:stretch/>
        </p:blipFill>
        <p:spPr>
          <a:xfrm>
            <a:off x="5791320" y="3276720"/>
            <a:ext cx="2792160" cy="296208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You should be able to work out your problems with out involving the court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anism has the power to change entire civilizations for the better.  It affects every aspect of life and makes it better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Confucian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repeatedly calls for Self-examination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many extravagant temples and shrines for Confucius. 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Confucius focused on the individuals, the people more than anything else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172200" y="3505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172200" y="5043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Tao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505320" y="6324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in Menu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200400" y="5043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 Buddh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0880" y="18288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Rounded MT Bold"/>
              </a:rPr>
              <a:t>The father of Taoism</a:t>
            </a:r>
            <a:endParaRPr b="0" lang="en-US" sz="4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33228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Lao Tzu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as born around 640 B.C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No one is really sure about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any dates or place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pic>
        <p:nvPicPr>
          <p:cNvPr id="165" name="Picture 6" descr="lao-tzu-tao-taoism"/>
          <p:cNvPicPr/>
          <p:nvPr/>
        </p:nvPicPr>
        <p:blipFill>
          <a:blip r:embed="rId1"/>
          <a:stretch/>
        </p:blipFill>
        <p:spPr>
          <a:xfrm>
            <a:off x="6400800" y="3352680"/>
            <a:ext cx="2381400" cy="305748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pic>
        <p:nvPicPr>
          <p:cNvPr id="167" name="Picture 4" descr="lao-tzu-taoism"/>
          <p:cNvPicPr/>
          <p:nvPr/>
        </p:nvPicPr>
        <p:blipFill>
          <a:blip r:embed="rId1"/>
          <a:stretch/>
        </p:blipFill>
        <p:spPr>
          <a:xfrm>
            <a:off x="6324480" y="3200400"/>
            <a:ext cx="2470320" cy="320040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Lao Tzu was not pleased with his people, so he left and went on a journey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Lao Tzu was asked to leave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a record of his beliefs with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his civilization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t took him three days to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complete 5000 characters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itled the Tao Te Ching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Tao Te Ching is in effect the Taoist bible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t centers around the concept of Tao. Or the “path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three meanings of “Tao”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ao- The way to ultimate reality.  This Tao is way to vast for a person to comprehend or fathom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ao- The way of the universe.  The norm, the rhythm, and the driving power in all of nature. Deals more with the spiritual side then the Physical side of thing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three meanings of “Tao”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ao- The way of human life.  It refers to the way that we mesh with the Tao of the universe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175" name="Picture 4" descr="Tao"/>
          <p:cNvPicPr/>
          <p:nvPr/>
        </p:nvPicPr>
        <p:blipFill>
          <a:blip r:embed="rId1"/>
          <a:stretch/>
        </p:blipFill>
        <p:spPr>
          <a:xfrm>
            <a:off x="6095880" y="4038480"/>
            <a:ext cx="2438640" cy="243864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Just like the three meanings of Tao.  All three were designed to facilitate the power of Tao through “te”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re are three types of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Philosophical Taoism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Religious or Popular Taoism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Vitalizing Taoism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Philosophical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s a reflective look at lif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Relatively unorganize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eaches what you should understan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You work on improving yourself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Seeks power through knowledg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Sought to conserve “te” and not to expend is on friction and conflict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Associated Lao Tzu, Chuang Tzu, and Tao Te Ching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6868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Philosophical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u Wei- The perfect way to live life, and reduce conflict and friction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9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Combines supreme activity and supreme relaxation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28600" y="4160880"/>
            <a:ext cx="86868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conscious mind has to get out of the way of its own light.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For one to perfect the wu wei lifestyle.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A lifestyle above excess and tension.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2485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Buddh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At 29yrs old Siddhartha Gautama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hile sitting under the bo tree, he experienced</a:t>
            </a:r>
            <a:br>
              <a:rPr sz="2800"/>
            </a:b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Great Awakening</a:t>
            </a:r>
            <a:br>
              <a:rPr sz="2800"/>
            </a:b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Gautama was gone and would now be known as the *BUDDHA*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0">
              <a:lnSpc>
                <a:spcPct val="95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Religious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Became a full fledge church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ts programs are activ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Taoist priesthood made cosmic life-power available for ordinary villagers.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ir power was with magic, the harnessed higher powers for human end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ant to help transmit “Ch’i” to people that can not get it on their own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2485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s in Buddh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Vitalizing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programs are activ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Relatively unorganized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eaches what you should do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Is a self help program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You work on improving yourself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Want to increase the amounts of Tao or “te” in their life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do this through “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ch’i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Vitalizing Taoism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want to remove the barriers that slowed the flow of “ch’i”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power of “ch’i” 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2" marL="1143000" indent="-228600">
              <a:lnSpc>
                <a:spcPct val="95000"/>
              </a:lnSpc>
              <a:spcBef>
                <a:spcPts val="165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“</a:t>
            </a:r>
            <a:r>
              <a:rPr b="0" lang="en-US" sz="2400" spc="-1" strike="noStrike">
                <a:solidFill>
                  <a:srgbClr val="003300"/>
                </a:solidFill>
                <a:latin typeface="Arial Rounded MT Bold"/>
              </a:rPr>
              <a:t>could shift Heaven and Earth”</a:t>
            </a:r>
            <a:endParaRPr b="0" lang="en-US" sz="2400" spc="-1" strike="noStrike">
              <a:solidFill>
                <a:srgbClr val="003300"/>
              </a:solidFill>
              <a:latin typeface="Arial Rounded MT Bold"/>
            </a:endParaRPr>
          </a:p>
        </p:txBody>
      </p:sp>
      <p:pic>
        <p:nvPicPr>
          <p:cNvPr id="191" name="Picture 5" descr="buddhist_monk3"/>
          <p:cNvPicPr/>
          <p:nvPr/>
        </p:nvPicPr>
        <p:blipFill>
          <a:blip r:embed="rId1"/>
          <a:stretch/>
        </p:blipFill>
        <p:spPr>
          <a:xfrm>
            <a:off x="6095880" y="3124080"/>
            <a:ext cx="2586240" cy="335304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Philosophical, Religious and Vitalizing Taoism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All center on how to maximize their Tao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y honor hunchbacks, crippels. Because the tallest tree get the axe first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ir temples blend in with the landscape.  They do not stand out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943600" y="5607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Buddhism and Confucianism 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Philosophical, Religious and Vitalizing Taoism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all teach that people will be at their best, when they are living in harmony with their surroundings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consider ceremonies pompous and downright silly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y feel there is nothing to gain from punctiliousness, and the meticulous observance of propriety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324480" y="5943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Confucian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324480" y="6415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Buddh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0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3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Tao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Taoist believe in opposites, and that things in nature have a way of working themselves out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2971800" cy="297180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  <p:sp>
        <p:nvSpPr>
          <p:cNvPr id="202" name="Text Box 6"/>
          <p:cNvSpPr/>
          <p:nvPr/>
        </p:nvSpPr>
        <p:spPr>
          <a:xfrm>
            <a:off x="0" y="37339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Taoist believe that people should be spontaneous and life their lives by someone else’s thoughts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6095880" y="3736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Lao Tzu connects the human to what transcends it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6477120" y="6095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Confucian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80880" y="6095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Unlike Confucianism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3505320" y="6324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in Menu</a:t>
            </a: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The Buddha began Buddhism and taught it to anyone who would listen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He was teaching a religion that was devoid of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Authority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Ritual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radition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Supernatural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67" name="Picture 4" descr="buddha_lying_down"/>
          <p:cNvPicPr/>
          <p:nvPr/>
        </p:nvPicPr>
        <p:blipFill>
          <a:blip r:embed="rId1"/>
          <a:stretch/>
        </p:blipFill>
        <p:spPr>
          <a:xfrm>
            <a:off x="4317840" y="3657600"/>
            <a:ext cx="4140360" cy="269244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It was though in fact: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Empirical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Scientific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Pragmatic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rapeutic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Egalitarian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Directed to individuals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  <p:pic>
        <p:nvPicPr>
          <p:cNvPr id="70" name="Picture 5" descr="buddhism"/>
          <p:cNvPicPr/>
          <p:nvPr/>
        </p:nvPicPr>
        <p:blipFill>
          <a:blip r:embed="rId1"/>
          <a:stretch/>
        </p:blipFill>
        <p:spPr>
          <a:xfrm>
            <a:off x="5254560" y="2055960"/>
            <a:ext cx="3500640" cy="3041640"/>
          </a:xfrm>
          <a:prstGeom prst="rect">
            <a:avLst/>
          </a:prstGeom>
          <a:ln w="25560">
            <a:solidFill>
              <a:srgbClr val="009900"/>
            </a:solidFill>
            <a:miter/>
          </a:ln>
        </p:spPr>
      </p:pic>
    </p:spTree>
  </p:cSld>
  <p:transition spd="med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’s key discovery is known as the Four Noble Truth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first truth is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Dukk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. Which refers to life's suffering. Buddha believed that the pains we feel in life could be cured through Buddhism.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99"/>
                </a:solidFill>
                <a:latin typeface="Impact"/>
              </a:rPr>
              <a:t>Buddhism</a:t>
            </a:r>
            <a:endParaRPr b="0" lang="en-US" sz="11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Buddha’s key discovery is known as the Four Noble Truths.</a:t>
            </a:r>
            <a:endParaRPr b="0" lang="en-US" sz="3200" spc="-1" strike="noStrike">
              <a:solidFill>
                <a:srgbClr val="0033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The second truth is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Tanha</a:t>
            </a:r>
            <a:r>
              <a:rPr b="0" lang="en-US" sz="2800" spc="-1" strike="noStrike">
                <a:solidFill>
                  <a:srgbClr val="336600"/>
                </a:solidFill>
                <a:latin typeface="Arial Rounded MT Bold"/>
              </a:rPr>
              <a:t>.  Which translates to the desire for private fulfillment. </a:t>
            </a:r>
            <a:endParaRPr b="0" lang="en-US" sz="2800" spc="-1" strike="noStrike">
              <a:solidFill>
                <a:srgbClr val="336600"/>
              </a:solidFill>
              <a:latin typeface="Arial Rounded MT Bold"/>
            </a:endParaRPr>
          </a:p>
        </p:txBody>
      </p:sp>
    </p:spTree>
  </p:cSld>
  <p:transition spd="med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9:59:35Z</dcterms:created>
  <dc:creator>King Shit</dc:creator>
  <dc:description/>
  <dc:language>en-US</dc:language>
  <cp:lastModifiedBy>Joe Naumann</cp:lastModifiedBy>
  <dcterms:modified xsi:type="dcterms:W3CDTF">2009-10-29T15:36:59Z</dcterms:modified>
  <cp:revision>45</cp:revision>
  <dc:subject/>
  <dc:title>Slide 1</dc:title>
</cp:coreProperties>
</file>